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93DD-3618-465F-AC90-F914DC7E5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D7A8-6764-42CC-87D0-90E910D4C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DB31-7898-474C-BEBA-25D11F44B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AD33-BE80-4544-B61D-0D40A3772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17C12-CF5B-4E7F-827F-6188B5B25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9D97B-E80C-40D9-BDC4-032FD5D33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BE642-F573-4449-AB77-9F91973F4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E2E7F-E875-44E0-9DE5-CC97DC2FB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B4001-321D-4637-90D3-EC1FE5434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818C5-EEF8-4033-817D-CE3F890B9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39CFF-D8A8-48DE-96C0-B460DDFA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95BC-AED9-46D2-9EA1-EF7B12DCC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18D28-2E39-4BAC-B2E5-8BAB33914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EE96B-3604-4F9B-BB79-9F8F08EBC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3438E-7E86-47ED-8322-92060D468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9975C-484B-41D9-A120-4E0B3853D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CA782-1728-4190-8D53-A245F0ED7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144C-FDF9-4B49-BEBE-FBC340939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EC71-4BBB-4803-955E-3818A2289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6091-610D-4321-A348-10D2D6EFC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DDC7-7CA0-4EF1-BCBD-7A9C07843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846F-D390-4893-B7D5-788EF528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11DE-9189-42DB-9464-386B3C324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7DA3-A6FD-426A-B11A-45B75898C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250A7-C908-4900-B963-B2A59505EF9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6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36AC8-AD98-439C-B133-D623D405E52C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ASDM: Psychiatry 15th week of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71320" y="3357360"/>
            <a:ext cx="8001000" cy="212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292929"/>
                </a:solidFill>
                <a:latin typeface="Verdana"/>
              </a:rPr>
              <a:t>ETHICAL ASPECTS AND LEGAL REGULATION OF MENTAL DISORDERS, DEONTOLOGICAL APPROACH IN PSYCHIATRY,</a:t>
            </a:r>
            <a:r>
              <a:rPr b="1" lang="en-US" sz="2800" spc="-1" strike="noStrike">
                <a:solidFill>
                  <a:srgbClr val="292929"/>
                </a:solidFill>
                <a:latin typeface="Verdana"/>
              </a:rPr>
              <a:t> </a:t>
            </a:r>
            <a:r>
              <a:rPr b="1" lang="sr-Latn-RS" sz="2800" spc="-1" strike="noStrike">
                <a:solidFill>
                  <a:srgbClr val="292929"/>
                </a:solidFill>
                <a:latin typeface="Verdana"/>
              </a:rPr>
              <a:t>FORENSIC PSYCHIATRY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292929"/>
                </a:solidFill>
                <a:latin typeface="Verdana"/>
              </a:rPr>
              <a:t>Prof. Dr. Dragana Dr. Ignjatović Ristić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292929"/>
                </a:solidFill>
                <a:latin typeface="Verdana"/>
              </a:rPr>
              <a:t>P</a:t>
            </a:r>
            <a:r>
              <a:rPr b="0" lang="en-US" sz="2000" spc="-1" strike="noStrike">
                <a:solidFill>
                  <a:srgbClr val="292929"/>
                </a:solidFill>
                <a:latin typeface="Verdana"/>
              </a:rPr>
              <a:t>rof</a:t>
            </a:r>
            <a:r>
              <a:rPr b="0" lang="sr-Latn-RS" sz="2000" spc="-1" strike="noStrike">
                <a:solidFill>
                  <a:srgbClr val="292929"/>
                </a:solidFill>
                <a:latin typeface="Verdana"/>
              </a:rPr>
              <a:t>. Dr. Vladimir Janjić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94" name="Picture 46" descr=""/>
          <p:cNvPicPr/>
          <p:nvPr/>
        </p:nvPicPr>
        <p:blipFill>
          <a:blip r:embed="rId1"/>
          <a:stretch/>
        </p:blipFill>
        <p:spPr>
          <a:xfrm>
            <a:off x="7308720" y="1125360"/>
            <a:ext cx="1397160" cy="1683000"/>
          </a:xfrm>
          <a:prstGeom prst="rect">
            <a:avLst/>
          </a:prstGeom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ensic - psychiatric expertise in the civil-law f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Expertise in business (in)capacity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Expertise in the ability to draw up wills and contract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rocedural capacity expertis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Expertise in divorce and child custody proceeding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Expertise in non-material (non-property) damage compensation procedure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ensic psychiatry and alcohol-related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25160" indent="-4251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rst stage: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light drunkenness(0.5-1.5 per thousand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stage: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real drunkenness (1.5-2.5 per thousand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stage: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narcotic(2.5-3.5 per thousand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stage: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omatose(&gt;3.5 per thousand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24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egal framewor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16160" indent="-416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e Law on Patient Right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Law on Protection of Persons with Mental Disabilitie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National guidelines of good clinical practice (treatment of depression, schizophrenia...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200" spc="-1" strike="noStrike">
                <a:solidFill>
                  <a:srgbClr val="000000"/>
                </a:solidFill>
                <a:latin typeface="Arial"/>
              </a:rPr>
              <a:t>Forensic psychiatry: </a:t>
            </a:r>
            <a:br>
              <a:rPr sz="3200"/>
            </a:br>
            <a:r>
              <a:rPr b="1" lang="sr-Latn-RS" sz="3200" spc="-1" strike="noStrike">
                <a:solidFill>
                  <a:srgbClr val="000000"/>
                </a:solidFill>
                <a:latin typeface="Arial"/>
              </a:rPr>
              <a:t>an 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71280" y="155736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Rules of behavior and law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e authority of society: legislative, judicial, and executiv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Necessary and good harmonization of national and international legislatio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157880" cy="108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000" spc="-1" strike="noStrike">
                <a:solidFill>
                  <a:srgbClr val="000000"/>
                </a:solidFill>
                <a:latin typeface="Arial"/>
              </a:rPr>
              <a:t>Experti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766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16160" indent="-4161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e concept of expertis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nswer to the Court based on evidence, rules of the profession, and objectively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e expert opinion is determined by the Court, in a written decision, and can be determined by an institution, a team, or an individua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void professional expressions before the Cour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000" spc="-1" strike="noStrike">
                <a:solidFill>
                  <a:srgbClr val="000000"/>
                </a:solidFill>
                <a:latin typeface="Arial"/>
              </a:rPr>
              <a:t>Forensic - psychiatric experti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 the field of criminal law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 the civil-law field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24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ensic - psychiatric expertise in the criminal-law field - Compreh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92929"/>
                </a:solidFill>
                <a:latin typeface="Arial"/>
              </a:rPr>
              <a:t>Comprehension: the ability to understand the significance of the committed act or the ability to manage one’s own actions at the time of the tortious situation</a:t>
            </a:r>
            <a:endParaRPr b="0" lang="en-US" sz="3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92929"/>
                </a:solidFill>
                <a:latin typeface="Arial"/>
              </a:rPr>
              <a:t>Comprehension is not a personality trait, but a temporary category that an expert declares, during a delict situation.</a:t>
            </a:r>
            <a:endParaRPr b="0" lang="en-US" sz="3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10920" y="96480"/>
            <a:ext cx="784836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ensic-psychiatric expertise in the criminal law field  - the ability to understand the importance of one’s own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e ability to reason adequately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t implies the ability of the executor to realize the real and social significance of his actio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rerequisite preserved intellectual capacitie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56800" y="-360"/>
            <a:ext cx="7929720" cy="142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ensic - psychiatric expertise in the criminal-law field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–  ability to manage one's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00000" y="2133720"/>
            <a:ext cx="766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e ability to decide, that is, the power of a person to initiate, direct, or control his own behaviors and action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e consequence of the harmonious development of cognitive and motivational processe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ensic - psychiatric expertise in the criminal–law field - assessment of compreh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71280" y="162864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0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unaccountability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0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0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0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0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0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0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ignificant reduction in sanity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0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0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0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0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0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0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reasonablenes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9" name="Up-Down Arrow 5"/>
          <p:cNvSpPr/>
          <p:nvPr/>
        </p:nvSpPr>
        <p:spPr>
          <a:xfrm>
            <a:off x="4286160" y="2143080"/>
            <a:ext cx="984240" cy="1216080"/>
          </a:xfrm>
          <a:prstGeom prst="upDownArrow">
            <a:avLst>
              <a:gd name="adj1" fmla="val 50000"/>
              <a:gd name="adj2" fmla="val 50022"/>
            </a:avLst>
          </a:prstGeom>
          <a:solidFill>
            <a:srgbClr val="cc9900"/>
          </a:solidFill>
          <a:ln w="9360">
            <a:solidFill>
              <a:srgbClr val="2929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0" name="Up-Down Arrow 6"/>
          <p:cNvSpPr/>
          <p:nvPr/>
        </p:nvSpPr>
        <p:spPr>
          <a:xfrm>
            <a:off x="4357800" y="4500720"/>
            <a:ext cx="984240" cy="1215720"/>
          </a:xfrm>
          <a:prstGeom prst="upDownArrow">
            <a:avLst>
              <a:gd name="adj1" fmla="val 50000"/>
              <a:gd name="adj2" fmla="val 50008"/>
            </a:avLst>
          </a:prstGeom>
          <a:solidFill>
            <a:srgbClr val="cc9900"/>
          </a:solidFill>
          <a:ln w="9360">
            <a:solidFill>
              <a:srgbClr val="2929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ensic-psychiatric expertise in the criminal law f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71280" y="162864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11840" indent="-411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Expert examination of perpetrators of criminal act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Expert testimony of witnesses of criminal act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Expert testimony of crime victim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spects of certain types of criminal acts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rimes against life and limb: minor bodily injury, serious bodily injury and murder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rimes against property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xual crimes: rape, unnatural fornication and fornication and inces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7T21:04:23Z</dcterms:created>
  <dc:creator>milica borovcanin</dc:creator>
  <dc:description/>
  <dc:language>en-US</dc:language>
  <cp:lastModifiedBy>Milena Stojkovic</cp:lastModifiedBy>
  <dcterms:modified xsi:type="dcterms:W3CDTF">2024-02-11T19:55:17Z</dcterms:modified>
  <cp:revision>28</cp:revision>
  <dc:subject/>
  <dc:title>Мере безбедности медицинског карактера</dc:title>
</cp:coreProperties>
</file>